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072D3C-B113-4644-90CF-B2C6161C32C8}"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C4665-93C1-478E-9D95-5247F1601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EAB12-EB5C-4F67-8780-7EE2FE455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814C9-B19E-4C95-A4A5-E35F1486A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5E2C9-A5C0-4B4D-95D3-691731EC9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0DEA9-E84B-4D54-99BA-CB302A10E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DB12C-811F-43BD-9541-E23ED7275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D50D3-E8AB-4395-B049-4DD79E42B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0648E-A952-45DB-9A70-B66AA1007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AAF13-F32E-4B0E-971E-177F2E00D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AFE1-0E4F-4870-9818-BE31DF650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F6B0C-7BD4-4FE1-859D-2892DF6F7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EF207-8656-4EEA-9BF8-E9AC63108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A4051E-3736-442C-AD22-D1B7B4915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FC1DA-0074-48D9-B92C-44286EF4D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760967-24B8-4C26-8104-D1CF5A49C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F28FD5-5944-4CED-B3C4-A21E73511E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1532FC-9482-4E3D-94E4-C10A0F295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F369B-3BFA-4253-8BC9-4A1016FA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FD32A-2755-4219-8445-F1E6228F3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16E31-88BA-460C-BAD7-7AED7743D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4E9A1-4CB2-4EDB-9A31-3C78D5DD4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25DA-849E-4F5B-AEE5-87C441348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DC8EF-9AEF-49C7-8D5C-366E5EBC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3A216-35D1-4539-BF17-AFE85F1C2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A020E-AA34-447B-BC70-68FFFCCDF479}"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DC52E-2A99-4F90-A490-84BCBBCBB8D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A3B1E-552E-47E8-B068-B9BCC2327BE0}"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7138-BE2F-4102-8E6F-6D1BF66036C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579F54D-55BF-4A9C-9CDA-672519C27D91}" type="slidenum">
              <a:t>10</a:t>
            </a:fld>
          </a:p>
        </p:txBody>
      </p:sp>
      <p:sp>
        <p:nvSpPr>
          <p:cNvPr id="5" name="PlaceHolder 4"/>
          <p:cNvSpPr>
            <a:spLocks noGrp="1"/>
          </p:cNvSpPr>
          <p:nvPr>
            <p:ph type="dt" idx="1"/>
          </p:nvPr>
        </p:nvSpPr>
        <p:spPr/>
        <p:txBody>
          <a:bodyPr/>
          <a:p>
            <a:fld id="{BBC7F81D-8213-4781-AC61-0DFE27A2DAE8}" type="datetime1">
              <a:rPr lang="en-US"/>
              <a:t>07/28/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C9895C4-6178-4BBF-8BB6-22440ED422FE}" type="slidenum">
              <a:t>11</a:t>
            </a:fld>
          </a:p>
        </p:txBody>
      </p:sp>
      <p:sp>
        <p:nvSpPr>
          <p:cNvPr id="6" name="PlaceHolder 5"/>
          <p:cNvSpPr>
            <a:spLocks noGrp="1"/>
          </p:cNvSpPr>
          <p:nvPr>
            <p:ph type="dt" idx="1"/>
          </p:nvPr>
        </p:nvSpPr>
        <p:spPr/>
        <p:txBody>
          <a:bodyPr/>
          <a:p>
            <a:fld id="{21FDF26C-D1CA-4047-BEC2-A04D5733C696}" type="datetime1">
              <a:rPr lang="en-US"/>
              <a:t>07/28/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F114017-A7FB-4C98-A695-1DFE75A8680D}" type="slidenum">
              <a:t>12</a:t>
            </a:fld>
          </a:p>
        </p:txBody>
      </p:sp>
      <p:sp>
        <p:nvSpPr>
          <p:cNvPr id="6" name="PlaceHolder 5"/>
          <p:cNvSpPr>
            <a:spLocks noGrp="1"/>
          </p:cNvSpPr>
          <p:nvPr>
            <p:ph type="dt" idx="1"/>
          </p:nvPr>
        </p:nvSpPr>
        <p:spPr/>
        <p:txBody>
          <a:bodyPr/>
          <a:p>
            <a:fld id="{42BBB200-BA80-4C56-BC2C-8E69073FB59E}"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2417FD3-A5A9-4054-88DE-D1D4F3D084CC}" type="slidenum">
              <a:t>13</a:t>
            </a:fld>
          </a:p>
        </p:txBody>
      </p:sp>
      <p:sp>
        <p:nvSpPr>
          <p:cNvPr id="6" name="PlaceHolder 5"/>
          <p:cNvSpPr>
            <a:spLocks noGrp="1"/>
          </p:cNvSpPr>
          <p:nvPr>
            <p:ph type="dt" idx="1"/>
          </p:nvPr>
        </p:nvSpPr>
        <p:spPr/>
        <p:txBody>
          <a:bodyPr/>
          <a:p>
            <a:fld id="{0E1AC4B6-074F-4AEB-A7E8-A53DAF4261A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5A16CCB-BCFD-4B23-8DC1-6A3F0FE21999}" type="slidenum">
              <a:t>14</a:t>
            </a:fld>
          </a:p>
        </p:txBody>
      </p:sp>
      <p:sp>
        <p:nvSpPr>
          <p:cNvPr id="6" name="PlaceHolder 5"/>
          <p:cNvSpPr>
            <a:spLocks noGrp="1"/>
          </p:cNvSpPr>
          <p:nvPr>
            <p:ph type="dt" idx="1"/>
          </p:nvPr>
        </p:nvSpPr>
        <p:spPr/>
        <p:txBody>
          <a:bodyPr/>
          <a:p>
            <a:fld id="{BD9E0161-EBA0-4878-AB05-13D2DE604E0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CFED813-BF58-4726-9967-1B77BCCA6AA1}" type="slidenum">
              <a:t>15</a:t>
            </a:fld>
          </a:p>
        </p:txBody>
      </p:sp>
      <p:sp>
        <p:nvSpPr>
          <p:cNvPr id="6" name="PlaceHolder 5"/>
          <p:cNvSpPr>
            <a:spLocks noGrp="1"/>
          </p:cNvSpPr>
          <p:nvPr>
            <p:ph type="dt" idx="1"/>
          </p:nvPr>
        </p:nvSpPr>
        <p:spPr/>
        <p:txBody>
          <a:bodyPr/>
          <a:p>
            <a:fld id="{EBE670B7-D475-4158-99A2-C98A0EFF5AC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B544E2E-E8F4-4C3C-AB4F-F2DD8B9C1E8C}" type="slidenum">
              <a:t>2</a:t>
            </a:fld>
          </a:p>
        </p:txBody>
      </p:sp>
      <p:sp>
        <p:nvSpPr>
          <p:cNvPr id="6" name="PlaceHolder 5"/>
          <p:cNvSpPr>
            <a:spLocks noGrp="1"/>
          </p:cNvSpPr>
          <p:nvPr>
            <p:ph type="dt" idx="1"/>
          </p:nvPr>
        </p:nvSpPr>
        <p:spPr/>
        <p:txBody>
          <a:bodyPr/>
          <a:p>
            <a:fld id="{0EAB0B75-5D86-4930-9DF6-A71E70E46341}" type="datetime1">
              <a:rPr lang="en-US"/>
              <a:t>07/28/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4FFADC3-1E3E-4495-9003-11E194E76355}" type="slidenum">
              <a:t>3</a:t>
            </a:fld>
          </a:p>
        </p:txBody>
      </p:sp>
      <p:sp>
        <p:nvSpPr>
          <p:cNvPr id="6" name="PlaceHolder 5"/>
          <p:cNvSpPr>
            <a:spLocks noGrp="1"/>
          </p:cNvSpPr>
          <p:nvPr>
            <p:ph type="dt" idx="1"/>
          </p:nvPr>
        </p:nvSpPr>
        <p:spPr/>
        <p:txBody>
          <a:bodyPr/>
          <a:p>
            <a:fld id="{ED11CA8C-D770-482A-AAC6-012258AC2D38}" type="datetime1">
              <a:rPr lang="en-US"/>
              <a:t>07/28/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3CF5EFE-0CA9-4471-BEED-E51612B0180B}" type="slidenum">
              <a:t>4</a:t>
            </a:fld>
          </a:p>
        </p:txBody>
      </p:sp>
      <p:sp>
        <p:nvSpPr>
          <p:cNvPr id="6" name="PlaceHolder 5"/>
          <p:cNvSpPr>
            <a:spLocks noGrp="1"/>
          </p:cNvSpPr>
          <p:nvPr>
            <p:ph type="dt" idx="1"/>
          </p:nvPr>
        </p:nvSpPr>
        <p:spPr/>
        <p:txBody>
          <a:bodyPr/>
          <a:p>
            <a:fld id="{20AD8126-C020-4D93-A8C0-E1ED2FFB36C3}" type="datetime1">
              <a:rPr lang="en-US"/>
              <a:t>07/28/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81B2610-3B0A-4BEA-BF9B-1197DD306BE7}" type="slidenum">
              <a:t>5</a:t>
            </a:fld>
          </a:p>
        </p:txBody>
      </p:sp>
      <p:sp>
        <p:nvSpPr>
          <p:cNvPr id="5" name="PlaceHolder 4"/>
          <p:cNvSpPr>
            <a:spLocks noGrp="1"/>
          </p:cNvSpPr>
          <p:nvPr>
            <p:ph type="dt" idx="1"/>
          </p:nvPr>
        </p:nvSpPr>
        <p:spPr/>
        <p:txBody>
          <a:bodyPr/>
          <a:p>
            <a:fld id="{B6F3E54B-3804-4E77-BE86-806655A4290C}" type="datetime1">
              <a:rPr lang="en-US"/>
              <a:t>07/28/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EEAD09-9E69-44B2-B896-68202A35734F}" type="slidenum">
              <a:t>6</a:t>
            </a:fld>
          </a:p>
        </p:txBody>
      </p:sp>
      <p:sp>
        <p:nvSpPr>
          <p:cNvPr id="5" name="PlaceHolder 4"/>
          <p:cNvSpPr>
            <a:spLocks noGrp="1"/>
          </p:cNvSpPr>
          <p:nvPr>
            <p:ph type="dt" idx="1"/>
          </p:nvPr>
        </p:nvSpPr>
        <p:spPr/>
        <p:txBody>
          <a:bodyPr/>
          <a:p>
            <a:fld id="{9F94D52C-F6A9-4BF1-9723-D82C0F9BE683}" type="datetime1">
              <a:rPr lang="en-US"/>
              <a:t>07/28/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C30B9CD-D8AC-49DA-9188-9D33A8817476}" type="slidenum">
              <a:t>7</a:t>
            </a:fld>
          </a:p>
        </p:txBody>
      </p:sp>
      <p:sp>
        <p:nvSpPr>
          <p:cNvPr id="6" name="PlaceHolder 5"/>
          <p:cNvSpPr>
            <a:spLocks noGrp="1"/>
          </p:cNvSpPr>
          <p:nvPr>
            <p:ph type="dt" idx="1"/>
          </p:nvPr>
        </p:nvSpPr>
        <p:spPr/>
        <p:txBody>
          <a:bodyPr/>
          <a:p>
            <a:fld id="{7B95FAC2-72DC-4C2B-B92C-16742A472FE7}" type="datetime1">
              <a:rPr lang="en-US"/>
              <a:t>07/28/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0B2A5BA-44A3-45DD-91D3-1BFE7B8E6BC0}" type="slidenum">
              <a:t>8</a:t>
            </a:fld>
          </a:p>
        </p:txBody>
      </p:sp>
      <p:sp>
        <p:nvSpPr>
          <p:cNvPr id="6" name="PlaceHolder 5"/>
          <p:cNvSpPr>
            <a:spLocks noGrp="1"/>
          </p:cNvSpPr>
          <p:nvPr>
            <p:ph type="dt" idx="1"/>
          </p:nvPr>
        </p:nvSpPr>
        <p:spPr/>
        <p:txBody>
          <a:bodyPr/>
          <a:p>
            <a:fld id="{D57DA1EA-742A-4C98-A927-81E167305961}" type="datetime1">
              <a:rPr lang="en-US"/>
              <a:t>07/28/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E844C93-9C33-4DA3-AB5C-8D1275DF1209}" type="slidenum">
              <a:t>9</a:t>
            </a:fld>
          </a:p>
        </p:txBody>
      </p:sp>
      <p:sp>
        <p:nvSpPr>
          <p:cNvPr id="5" name="PlaceHolder 4"/>
          <p:cNvSpPr>
            <a:spLocks noGrp="1"/>
          </p:cNvSpPr>
          <p:nvPr>
            <p:ph type="dt" idx="1"/>
          </p:nvPr>
        </p:nvSpPr>
        <p:spPr/>
        <p:txBody>
          <a:bodyPr/>
          <a:p>
            <a:fld id="{5A81EB1B-282A-4D9A-A9AA-6B67B3766257}" type="datetime1">
              <a:rPr lang="en-US"/>
              <a:t>07/28/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